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A22-4F9F-4C49-88E8-3B5A2557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8BA-CEA2-4BBA-9D96-E6A9D694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5E1-A812-4E94-A981-A34554C2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68D-3D86-40BF-8C23-76D59BA2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155-FC78-4993-BDBA-D48A4E31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BB8-894F-4B71-A07E-9885AF42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E09-AAAF-4728-97D7-A02611A3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A6D-4C41-4DF2-96F1-CFB24857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7FB-5049-40A4-93FA-25947A1F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B616-0CFA-4CAC-A173-6167314B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E41-5BC2-478F-87D4-A6E6C887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4A7-4025-4910-BC68-12ADEE04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6B9D-FA58-40F8-9289-6779C8897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09480"/>
            <a:ext cx="8153280" cy="580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5480" y="876240"/>
            <a:ext cx="3594240" cy="3162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84480" y="127080"/>
            <a:ext cx="472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38160"/>
            <a:ext cx="3124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914400"/>
            <a:ext cx="3593880" cy="3162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3809880"/>
            <a:ext cx="2832120" cy="2438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1:43:10Z</dcterms:created>
  <dc:creator>New User</dc:creator>
  <dc:description/>
  <dc:language>en-US</dc:language>
  <cp:lastModifiedBy>New User</cp:lastModifiedBy>
  <dcterms:modified xsi:type="dcterms:W3CDTF">2010-03-22T00:45:05Z</dcterms:modified>
  <cp:revision>3</cp:revision>
  <dc:subject/>
  <dc:title>Slide 1</dc:title>
</cp:coreProperties>
</file>